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456-7F91-45A8-8043-9BB0C729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6A2-18E4-4BFB-AEE4-8F9C2B8B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359-657A-4C4C-AEFD-CE8652D7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650-CC7B-42BB-AF95-67E27C79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6261-22BA-4D6A-88D9-6AE92E4C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BA8E-D935-4C77-9166-8D05FE9F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DB2-01A7-4095-85EE-D39E9F6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2E4-93B2-4F25-9B05-8B33731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7821-0461-46A2-9067-BA5133B0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72CE-83BC-4092-B808-A99F56D7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C2A-7EAF-4EB5-AA8C-BA6BAE1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75D-066B-423E-A209-81015F5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9A9-74A4-4888-B820-9CBF8CA7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ED67-9E2A-4F3E-B1AC-3EE6CB2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DCE9-4F1E-4E56-8649-C0B1177C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50AD-2455-472C-A31F-91F19A5E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0786-3234-4535-9427-7B569A05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C1B9-DCC6-48F3-97A8-617CC02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DC61-ECA0-47ED-AA4A-4FEB164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C28A-DF11-4B52-BC82-A502B58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020E-E291-4799-A3EB-201F69E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563E-980E-4D2B-8C4F-BF89FA3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83A-8F10-45EA-B96E-F14AC67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40D1-01AA-49D0-8BE2-C5661B22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5C60D-98FE-4B98-874E-45E2116D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7CFA0-ACD0-4393-B6F3-B79FF47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0B01-2A8B-4CEA-A365-EF89ABF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6842-F95F-4462-A7CF-A87606C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8A15-A4B2-48C7-AE58-D01C5628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3D9C-D6D0-4AA7-A139-0ECBFA1A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0171-0734-4232-BF8F-32A065D5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865B-8A73-4F30-93B7-DF6945C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55B8-CA4C-40D8-A6C6-BCA9629C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1BB-F43C-434A-91E2-7134844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52E9-F62D-4ECC-8F9D-014C847B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4238-C462-482D-94B2-09E7292D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1549-2DA2-4A90-B195-D9D7D772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1C31-28A3-4EA3-891B-6F26324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FDEB-4FA5-463C-8D31-0E6E5477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8D22E-A372-4468-918A-E6B3BA5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46E0-8F25-4531-B304-B30ECDE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66DC5-A499-46CA-8CE2-9624321B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A773-E0CA-454E-97D5-E12F65BB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E0D-758C-46AF-9472-E3933F1F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4EE-4420-4EDE-B3B8-B6E5E6B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8B1-8875-4AB9-8D83-AD70006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C17-2B6F-4B3E-A464-14AB343C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AFE-4ABF-438C-8620-634DC76C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1D36-2DBB-466A-A8FB-EA49489B59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FF8-8ED4-4393-9A00-E48D4EF9AE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F3F-259A-46EB-8611-944F5CB4E1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170-0150-48BA-8287-A3751A0D6E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06520"/>
            <a:ext cx="7785000" cy="1163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114800" y="198108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the WATER CYCLE there are four part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PRECIPITATION into INFILTRATI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t all EVAPORTATES becoming CONDENSATION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the WATER CYCLE starts over again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water cycle for kids. In summary, the Water Cycle"/>
          <p:cNvPicPr/>
          <p:nvPr/>
        </p:nvPicPr>
        <p:blipFill>
          <a:blip r:embed="rId2"/>
          <a:stretch/>
        </p:blipFill>
        <p:spPr>
          <a:xfrm>
            <a:off x="457200" y="2286000"/>
            <a:ext cx="3333600" cy="4191120"/>
          </a:xfrm>
          <a:prstGeom prst="rect">
            <a:avLst/>
          </a:prstGeom>
          <a:ln w="0">
            <a:noFill/>
          </a:ln>
        </p:spPr>
      </p:pic>
      <p:pic>
        <p:nvPicPr>
          <p:cNvPr id="198" name="ItsyBitsySpider.mp3" descr=""/>
          <p:cNvPicPr/>
          <p:nvPr/>
        </p:nvPicPr>
        <p:blipFill>
          <a:blip r:embed="rId3"/>
          <a:stretch/>
        </p:blipFill>
        <p:spPr>
          <a:xfrm>
            <a:off x="43434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480060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tsy Bitsy Spider  (with Lyrics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85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20:21:15Z</dcterms:created>
  <dc:creator> </dc:creator>
  <dc:description/>
  <dc:language>en-US</dc:language>
  <cp:lastModifiedBy> </cp:lastModifiedBy>
  <dcterms:modified xsi:type="dcterms:W3CDTF">2012-02-20T20:45:09Z</dcterms:modified>
  <cp:revision>4</cp:revision>
  <dc:subject/>
  <dc:title>The Water Cycle </dc:title>
</cp:coreProperties>
</file>